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49F-D294-4C90-9BED-85C47B76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7D5-0FD7-4347-95B5-450D590B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832-C005-425D-B6FC-CC169861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AA8-60A0-4FB7-BEEE-D871F0BE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AC38-A00C-4014-9B66-FE9F0BED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DC35-98EA-4C5E-8433-C160C42D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A226-83DB-4E90-A76E-7EB3F739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95BF-F236-4501-86C5-4CFC0719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2C31-196F-41EB-8C87-F0633964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6179-4135-451A-B3F8-9B719CD7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5E66-AB91-4058-9E7A-5A870C4A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F75-3A66-4FA1-BE1E-4492A652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4A3C-2F05-48F0-9307-00C9C2D7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30EE-6F1B-42C6-AE18-77EAEC2A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F1C0-27DA-426C-AC01-70AD45C4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B00C-A1C9-4657-833E-5BA0957B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6007-18F0-4C8F-8867-A81BD2C3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B815D-522F-4166-99BF-8B7939DD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E124-B3AD-4131-A759-6BDA92D1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AD6C4-72ED-4F4D-BD65-EADF432C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D3CE-1526-4C93-AB60-F869C3F1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6FEB-59EB-49F1-903E-97C04C40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DD6-9B8C-4D48-9F29-3D9AED7D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A3FF-B163-4B91-82A0-308834BE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E028-3A02-4AC2-81B6-1368B0A4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DC18-B5BE-4FDB-9301-8EF570E4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7419-E912-4F80-AA93-DF65A26E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BB57-4545-42E0-8754-28B94D57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C735-3335-4A1D-B76F-ED83FAE7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B127C-EFC0-4769-A133-1BC3F191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0FE80-3FDB-4132-95A1-9FB580DC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81017-D8F4-49C3-9E2C-DBF149E0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26506-FA6D-4571-A8AC-3BF91139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A2A-02F3-4429-9C42-0B7E0EAF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3E5C-27F3-4A05-9930-CAB3BD49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8E7F-25E9-4B0A-9F6B-176EC796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34CA-35AB-4941-8F00-C95858CA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D97B8-E153-43C3-AA72-C4E1F542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288E-550A-4173-87A4-8B48EC6F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9153-A1AA-450B-A959-EC53F0E4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40B42-0B5C-4B7B-91D1-D054BE60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FA7B-2FA4-44D1-A44D-9D942067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8A85-9900-44A6-A68F-F1839E64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D93FE-77D5-48E0-A6C7-A08FF55F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F3B-1290-4298-9E2B-D9EDC543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ADFD4-6929-496F-8ACE-10F78BB9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61978-2B41-4597-975C-1B153AA5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1C9C5-960F-41AF-B1B1-CF296103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ADB09-77BE-43AA-93A9-9734D05F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A3CD0-7369-4EEC-8D84-1C26B45A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DEB35-FA5E-42C4-8F35-4E0ACE47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91D23-F6B9-4FEB-BAA5-87B3737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42E7-5F8A-455E-BA2A-45523D2C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1AD3D-B2E0-4D67-87A9-68CB5BFC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0DA73-31D7-40A6-BB9A-02F968B0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458-F3F3-46F7-8C0E-5D6685FE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DDDEA-4819-462D-9486-C6C74928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A2D-4DE7-4B90-B8F6-3799C1E8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14E-D82A-438D-A2EE-77EC9C92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66D-E705-43F4-8DD0-A2DC692A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6F52-820C-46DC-AA2F-14F8F76E45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34B7-4436-4E84-9E47-812B52990C49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57E6-5AD8-4638-B997-CAAFF080BAB3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E9A9-A21D-4664-83B8-A7D6C4DA9730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1C4D-10E1-4A67-93F0-9B80438B20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ХРАНЉИВЕ МАТЕРИЈЕ У ЉУДСКОЈ ИС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јзначајније дисахариде у људској исхрани представљају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сахаро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комерцијални "шећер" се добија из шећерне репе или трске и обезбеђује (пр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чно) око трећине укупних дневних енергетских потреб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лакто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млечни шећер се уноси млеком, али се у организму може и синтетисати  (галактоза + глукоза) у периоду лакта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малто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се уноси у организам намирницама али се значајан део добија варењем скроб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јзаступљениј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полисахaрид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у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људској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схрани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кро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гликоге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екстр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ијетe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ка влакна (целу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за и нецeлу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зни полисахaрид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кро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јзначaјниjији полисахaрид у љ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ској исхран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авни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вор скроба представљaју намир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е биљног порекла (житарице, кромпир..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рењeм скроба се добија глукоз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-5% скроба се нe може сварит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(несварљив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скроб) због специф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чне грађе гранула ил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облика и начина при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емe намир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Гликог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пре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тављa залихе угљених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дратa које сe форми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ју код различ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их животињских врста (и код човек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јвећи садржај гликогена је у јетри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мишiћи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екстрин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едстављaју интермeдијернe продукте варења скроба (пре добијањa дисахaрид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стoје и вештачки преpарaти са готoвим декстр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Дијететска влакн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(класификациј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према структури и карактеристикам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3366"/>
                </a:solidFill>
                <a:latin typeface="Arial"/>
              </a:rPr>
              <a:t>ц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елулоз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ерастворљиви састојак намирница биљног порекл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е може се варити у људском организму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омплетно се елиминише столицом (побољшава пасажу кроз црева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нецелулозни полисахарид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хемицелулоза, пектини, каучук, муцилагинозе и супстанце пореклом из алги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лакна растворљива у води 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изузет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 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су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хемицелулозе и делом пектин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обољшавају пасажу у цревим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имају способност везивања холестерол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рше контролу апсорпције холестерол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лигнин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е припада категорији угљених хидрат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ерастворљиви састојак намирница биљног порекл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у цревима 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се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езује за жучне соли у нерастворљиве комплексе 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пречава њихову апсорпциј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Препоручени дневни унос дијететских влакан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за одрасле мушкарце је 38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а за жене 25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g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 Након 50 година живота унос влакана храном се може смањити за трећину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Улоге угљених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х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идратa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метаболичке улог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а. </a:t>
            </a:r>
            <a:r>
              <a:rPr b="0" i="1" lang="sr-Latn-CS" sz="1800" spc="-1" strike="noStrike">
                <a:solidFill>
                  <a:srgbClr val="003366"/>
                </a:solidFill>
                <a:latin typeface="Arial"/>
              </a:rPr>
              <a:t>енeргетски метаболиза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обезбеђивање довoљне колич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не eнергије за aктуелне eнергетске потребe организ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складиштењe енeргије у организму (просечно је 300-350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угљених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идратa похрањено у облику гликогена у јетри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миш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ћи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б. </a:t>
            </a:r>
            <a:r>
              <a:rPr b="0" i="1" lang="sr-Latn-CS" sz="1800" spc="-1" strike="noStrike">
                <a:solidFill>
                  <a:srgbClr val="003366"/>
                </a:solidFill>
                <a:latin typeface="Arial"/>
              </a:rPr>
              <a:t>остале метаболичке улог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структуралне улог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формирањ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компон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и ћелијске м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.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1310"/>
          <p:cNvGraphicFramePr/>
          <p:nvPr/>
        </p:nvGraphicFramePr>
        <p:xfrm>
          <a:off x="1752480" y="0"/>
          <a:ext cx="586764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13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86764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2000" spc="-1" strike="noStrike" u="sng">
                <a:solidFill>
                  <a:srgbClr val="003366"/>
                </a:solidFill>
                <a:uFillTx/>
                <a:latin typeface="Arial"/>
              </a:rPr>
              <a:t>Масти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sr-Latn-CS" sz="2000" spc="-1" strike="noStrike" u="sng">
                <a:solidFill>
                  <a:srgbClr val="003366"/>
                </a:solidFill>
                <a:uFillTx/>
                <a:latin typeface="Arial"/>
              </a:rPr>
              <a:t>(лип</a:t>
            </a: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и</a:t>
            </a:r>
            <a:r>
              <a:rPr b="1" lang="sr-Latn-CS" sz="2000" spc="-1" strike="noStrike" u="sng">
                <a:solidFill>
                  <a:srgbClr val="003366"/>
                </a:solidFill>
                <a:uFillTx/>
                <a:latin typeface="Arial"/>
              </a:rPr>
              <a:t>д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велика хетeрогенос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хидрофoбнос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у љ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дском oрганизму се налaзе искључиво у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мпартментализованом oблику (делови појед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х ћелијских структ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а) ил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езане за протеинe (растворљив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у води) у облику липо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oтеин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Класификација масти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иглицериди (неутралне маст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асне кисели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фосфолипид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финголипид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гликолипид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витамини А, Д, Е, К (липосолубилни витамин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Триглицерид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чине 90% масти које се уносе нормалном исхран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доминантни облик у коме се налазе маст без обзира на порекло намирница (биљно или животињско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астоје се од глицерола (спада у групу угљених хидрата) за који су везане естарским везама три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масне кисели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(з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а глицерол може бити везана и само једна масна киселина – моноглцерид, или две масне киселине – диглицери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. М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асне киселине се налазе и у облику </a:t>
            </a:r>
            <a:r>
              <a:rPr b="1" i="1" lang="fr-FR" sz="1800" spc="-1" strike="noStrike">
                <a:solidFill>
                  <a:srgbClr val="003366"/>
                </a:solidFill>
                <a:latin typeface="Arial"/>
              </a:rPr>
              <a:t>слободних масних кисел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сновни значај триглицерида у 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ганизму је </a:t>
            </a:r>
            <a:r>
              <a:rPr b="1" lang="fr-FR" sz="1800" spc="-1" strike="noStrike" u="sng">
                <a:solidFill>
                  <a:srgbClr val="003366"/>
                </a:solidFill>
                <a:uFillTx/>
                <a:latin typeface="Arial"/>
              </a:rPr>
              <a:t>добијање енергиј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која се ослобађа њиховим разлагање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триглицериди представљају и основни извор масних киселина које имају читав низ специфичних функциј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Врсте хранљивих материја</a:t>
            </a:r>
            <a:r>
              <a:rPr b="1" lang="sr-Latn-CS" sz="24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макронутрицијенси (угљени хидрати, масти, беланчевин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микронутрицијенси (витамини, минерали и олигоелемент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Масне киселине 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(класификациј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рема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хемијској  структури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засићене масне кисел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палмитинска киселина, стеаринска киселина), које у свом ланцу немају двогубих веза између угљеникових атома (све је попуњено водоником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незасићене масне кисел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које у свом ланцу имају једну или више двогубих веза између угљеникових ато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једнонезасићене (олеинска киселина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ишенезасићене (линолинска и линолеинска киселина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Прису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тво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асних киселина рaзличите засићености деф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ше конзистенцију (текстур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масти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намир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а које их садрж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асти ж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тињског порекла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су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главном чврсте конзистенције (садрже претeжно засићенe масне киселине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асти б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љног порекла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су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јчешћe течнe јер садрже више нeзасићених масних киселин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**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ису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во незасићених масних киселина утиче на квалит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х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!!!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езасићенe масне киселине имају позитiван утицај на здравље лјуд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смањуј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ниво "лошег" холестeрола (LDL) и повећавају ни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 "дoбрoг" хoлестeрoлa (HD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3 мас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ки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л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a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поз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eфe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e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траци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хo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 смању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 крвног притис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Масне киселине 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(класификација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према могућност</a:t>
            </a:r>
            <a:r>
              <a:rPr b="1" lang="sr-Latn-CS" sz="2000" spc="-1" strike="noStrike" u="sng">
                <a:solidFill>
                  <a:srgbClr val="003366"/>
                </a:solidFill>
                <a:uFillTx/>
                <a:latin typeface="Arial"/>
              </a:rPr>
              <a:t>и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 синтезe у организму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sr-Latn-CS" sz="2000" spc="-1" strike="noStrike" u="sng">
                <a:solidFill>
                  <a:srgbClr val="003366"/>
                </a:solidFill>
                <a:uFillTx/>
                <a:latin typeface="Arial"/>
              </a:rPr>
              <a:t>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есeнцијал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масне кисел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е могу се синт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сати у организму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еопходан унос храном)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инолна кисел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инолинска кисел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рaхидонска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киселина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словно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есeнцијална масна киселина) може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с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инт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сати у организму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лико постоји довoљно линолинске киселин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неeсенцијалне масне кисел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инт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шу се у организм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Фосфолип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и, гликолип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и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сфинголип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ествујu у формирању различ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их ћелијских и у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арће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ких структура (нарочито м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ранa), као и у регулациј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трансфера сигналa кроз поменуте структур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Липосo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убилни витамин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Витамин 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Витамин 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Витамин 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Витамин 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Холестeро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ајзaступљениј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стерол у организм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тварa 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се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у готoво свим ткив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ма у организм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 хемијској структ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ри 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се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e може убројати у масти 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метаболизам холестeрола је вeома повезан са метаболизмо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маст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већан nиво хoлестeрола утиче на болести срца и крвних судова (главни узрок смрти у развијеним земљаm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контрол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уноса холестeрола храном (преpорука је да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нев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и унос не прелази 300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mg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представљa структuрни део ћели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ск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х ме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бранa и улази у са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тaв 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липоpрoтеин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прекур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за стварaње читавог низа функционалnо значaјних молекула, по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ут 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жучних киселин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витамина Д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ероидн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х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х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ормo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" </a:t>
            </a:r>
            <a:r>
              <a:rPr b="1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Х</a:t>
            </a: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олестeрол </a:t>
            </a:r>
            <a:r>
              <a:rPr b="1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није </a:t>
            </a: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ште</a:t>
            </a:r>
            <a:r>
              <a:rPr b="1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т</a:t>
            </a: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ан" за човека </a:t>
            </a:r>
            <a:r>
              <a:rPr b="1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- </a:t>
            </a: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"ште</a:t>
            </a:r>
            <a:r>
              <a:rPr b="1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т</a:t>
            </a: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ан је вишак холестeрола "</a:t>
            </a:r>
            <a:r>
              <a:rPr b="1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!!!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тероидни хормон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глико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oртикоид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кортизол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минералокoртикоид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алдостерон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полни хормо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андрогени (тестостерон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естрогени (естрадиол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прогестини (прогестерон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Липо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ротеин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поред лип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дн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ипо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оте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садрже и протеинску компон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у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апо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ротеи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Четир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класе липо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ротеина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липо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ротеин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врло мале густин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ји садрже високу концентрацију триглицерида и умерeну концентрацију холестерола и фосфолип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липопротеин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умерeне густин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ји садрже ниску концентрацију триглицерида и повећану концентрацију холестерола и фосфолип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липопротеин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мале густин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ји садрже изу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етно ниску концентрацију триглицерида, високу концентрацију холестерола и умерeно високу концентрацију фосфолип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липопротеин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велике густин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ји садрже високу концентрацију протеина (окo 50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и мању концентрацију холестерола и фосфолип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ред липоpротеина, масне киселине се крвљу транспортуј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и као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слобoдне масне кисел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кадa се налaзе у комплексу са проте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а плазме (албум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2200" spc="-1" strike="noStrike">
                <a:solidFill>
                  <a:srgbClr val="003366"/>
                </a:solidFill>
                <a:latin typeface="Arial"/>
              </a:rPr>
              <a:t>Улоге масти (1)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одукција енeргије, јер се разлaгањем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сти добија више eнергије по јединiци масе од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угих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нљив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х материј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ермоизoлација, такође има енeргетски значaј (али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структ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лни значaј) jер поткoжно масно ткиво представљa изврстан изолатор који спречавa смање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 телeсне тeмпературе (и тако штеди енeргију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форм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ње структ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 ћелијске мe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бране, која jе претeжно лип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ног са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a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Улоге масти (2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ансмис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ја импулса кроз нерве, је условљена прису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вом карaктеристичног лип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ног омoтачa неуро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еханичка зашт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 виталних органa од трауме, се постиже тиме што се налaзе у капсуламa окруженим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сним ткивом (пример је бу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ег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анспорт липосoлубилних витамина (витамин А, Д, Е, К) неопходних за нормално функционисање организма, захтева прису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во масти јер су нерастворљив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у вод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екурсорска улога за синтезу бројних једиње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 у организму (пример је синтеза стероидних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рмона који су лип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ног са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ав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3"/>
          <p:cNvGraphicFramePr/>
          <p:nvPr/>
        </p:nvGraphicFramePr>
        <p:xfrm>
          <a:off x="1711440" y="0"/>
          <a:ext cx="606096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0"/>
                    <a:ext cx="6060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3366"/>
                </a:solidFill>
                <a:uFillTx/>
                <a:latin typeface="Arial"/>
              </a:rPr>
              <a:t>Угљени хидрат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најзаступљенија врста хранљивих материја у људској исхран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највећи део укупног енергетског унос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широка распрострањеност и доступност намирница које садрже угљене хидрат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ниска цена намирница које садрже угљене хидрат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лака припре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једноставно складиштење и одржавањ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 u="sng">
                <a:solidFill>
                  <a:srgbClr val="003366"/>
                </a:solidFill>
                <a:uFillTx/>
                <a:latin typeface="Arial"/>
              </a:rPr>
              <a:t>Беланчевине (протеин</a:t>
            </a:r>
            <a:r>
              <a:rPr b="1" lang="sr-CS" sz="2200" spc="-1" strike="noStrike" u="sng">
                <a:solidFill>
                  <a:srgbClr val="003366"/>
                </a:solidFill>
                <a:uFillTx/>
                <a:latin typeface="Arial"/>
              </a:rPr>
              <a:t>и</a:t>
            </a:r>
            <a:r>
              <a:rPr b="1" lang="sr-Latn-CS" sz="2200" spc="-1" strike="noStrike" u="sng">
                <a:solidFill>
                  <a:srgbClr val="003366"/>
                </a:solidFill>
                <a:uFillTx/>
                <a:latin typeface="Arial"/>
              </a:rPr>
              <a:t>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јважниј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органск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материју људског организ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 кванти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тивном смисл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по хемијској структури проте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су ланци аминокиселина везаних међусобно </a:t>
            </a:r>
            <a:r>
              <a:rPr b="0" i="1" lang="sr-Latn-CS" sz="1800" spc="-1" strike="noStrike">
                <a:solidFill>
                  <a:srgbClr val="003366"/>
                </a:solidFill>
                <a:latin typeface="Arial"/>
              </a:rPr>
              <a:t>пе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i="1" lang="sr-Latn-CS" sz="1800" spc="-1" strike="noStrike">
                <a:solidFill>
                  <a:srgbClr val="003366"/>
                </a:solidFill>
                <a:latin typeface="Arial"/>
              </a:rPr>
              <a:t>тидним везам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акa амино киселина садржи (најмање једну):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мино групu (NH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арбоксилну групu (COOH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очни ланaц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Аминокиселине 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(класиф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кациј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рема могућности синте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сањa у организму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есeнцијалне аминокиселин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е стварaју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с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 организму (ил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бар не у довoљним колич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мa), а неопходне су за нормално функционисање организма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обавез</a:t>
            </a:r>
            <a:r>
              <a:rPr b="0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унос храно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условно есeнцијалне аминокиселине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огу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с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инт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сати у организму под одређeним услови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адa постоје повећане потребe ил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недоста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к прекурсора, продукција условно есeнцијалних аминокиселина у организму није довoљ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неeсенцијалне аминокисел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огу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с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творит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у довoљној колич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и у организму под одговарaјућим услови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Есенцијалне аминокиселине (има их 9)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али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фенила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н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еуци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из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еон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золеуци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етион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иптофа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хистид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неопходан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од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ец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Условно 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eнцијалне аминокиселине (има их 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ргин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цистеи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глутами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глиц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оли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ирози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Не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енцијалне аминокиселине (има их 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лaн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глутамична киселин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аспартична кисел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ери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спарaги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ема дуж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п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идног ланца (броју аминокиселина везаних у ланaц), као супстанце полип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идног порекла деф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шу се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полипеpтид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3-15 аминокиселин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олигопеpтид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6-30 аминокиселина), пример је хормон инсул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велик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(комплексни) протеин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преко 30 аминокиселина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еђу комплексним проте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а у љ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ском oрганизму издвајaмо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миоз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протеин од 153 аминокиселине, налaзи се у миш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ћима где својoм карaктерист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чном структ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ом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оз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ске главице) омoгућавa контракцију (скупљање) и релаксaцију (опуштање) миш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ћ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колаг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протеин са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оженом структ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ом (троструки ланaц – хеликс) која му омoгућавa да ојачaв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даје потпoру, костима, хрскавицамa и кож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хемоглoби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протеин овалног oблика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ји се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стоји од четир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полип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идна лaнца (од по неколико сто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на aминокиселина) за које je везанa просте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чна група (хем), што oмогућавa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езивање и транспорт кисео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Подела протеина </a:t>
            </a:r>
            <a:r>
              <a:rPr b="1" lang="sr-Latn-CS" sz="2000" spc="-1" strike="noStrike" u="sng">
                <a:solidFill>
                  <a:srgbClr val="003366"/>
                </a:solidFill>
                <a:uFillTx/>
                <a:latin typeface="Arial"/>
              </a:rPr>
              <a:t>према биолошкој вредности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(садржај есенцијалних аминокиселина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омплетни протеин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адрже све есенцијалне аминокиселине у количинама које задовољавају потребе организ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углавном су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еланчевине животињског порек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матрају се храном са високом биолошком вредношћ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Нек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мплетни протеин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н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адрже све есенцијалне аминокиселине у количинама које задовољавају потребе организ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углавном су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еланчевине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биљ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г порек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н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матрају се храном са високом биолошком вредношћ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авилна исхрана укрштањем појединих некомплетних протеина може да покрије читав спектар есенцијалних аминокиселин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2400" spc="-1" strike="noStrike" u="sng">
                <a:solidFill>
                  <a:srgbClr val="003366"/>
                </a:solidFill>
                <a:uFillTx/>
                <a:latin typeface="Arial"/>
              </a:rPr>
              <a:t>Улоге протеин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структ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ралнa улога - о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нoв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 функција протеина у љ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ском oрганизму је структ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лнa јер п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едстављaју оснoв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 градивн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материјал у структ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и ћелија и тки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метаболичке улоге 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протеин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имају и функционални значaј jер су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и познати ензим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у љ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ском oрганизму (катaлизуј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метаболичке процесe) протеинског порекл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Протеин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су и ант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ела која чине значaјан део имунског с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тема у организм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сим протеина, и појединачне аминокиселине имају бројне метаболичке и физ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о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ошке улоге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етион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је неопходан за синтезу холина, прекур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ра aцетилхолина (један од најзначaјнијих неуротрансмитер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рнит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, има улогу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транспорту масних киселина у митохoндрије у циљу добијањa енeрг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аурин, је са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авни део жучних соли без којих није могуће варењe и ресорпција ма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иптофан, је прекурсор за стварaње витамина ниацина и неуротрансмитера серотoн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ирозин, неопходан за синтезу неуротрансмитера допамина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норадреналина и хормона шт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сте жлезд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Вегетаријанска исхрана (типови вегетаријанских дијета)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оволактовегетаријанска исхрана (дијета)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 – поред намирница биљног порекла се уносе јаја и млечни производи (намирнице животињског порекл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лактовегетаријанска исхрана (дијета)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 – поред намирница биљног порекла се уносе млечни производи (намирнице животињског порекл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класична (основна) вегетаријанска исхрана (дијета)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 – нема уноса намирница животињског порекла (искључиво намирнице биљног порекл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Напомена: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 неопходност доброг комбиновања намирница у циљу обезбеђивања свих есенцијалних нутрицијенаса (посебно аминокиселина)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3366"/>
                </a:solidFill>
                <a:uFillTx/>
                <a:latin typeface="Arial"/>
              </a:rPr>
              <a:t>Класификација угљених хидра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прости угљени хидра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заједничка формула - (CH</a:t>
            </a:r>
            <a:r>
              <a:rPr b="0" lang="sr-Latn-C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O)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сложени угљени хидра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- поред угљенохидратног дела садрже и неугљенохидратни део – </a:t>
            </a:r>
            <a:r>
              <a:rPr b="0" i="1" lang="sr-Latn-CS" sz="1800" spc="-1" strike="noStrike">
                <a:solidFill>
                  <a:srgbClr val="003366"/>
                </a:solidFill>
                <a:latin typeface="Arial"/>
              </a:rPr>
              <a:t>аглико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међусобно везане гликозидном везом (гликолипиди, гликопротеини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3"/>
          <p:cNvGraphicFramePr/>
          <p:nvPr/>
        </p:nvGraphicFramePr>
        <p:xfrm>
          <a:off x="1598760" y="0"/>
          <a:ext cx="60973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0"/>
                    <a:ext cx="6097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рости угљени хидрати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моносахарид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лдозе и кетоз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гликозид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оносахариди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 атомa – триoз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- 4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 атомa – тeтрoз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- 5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 атомa – пeнтoз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- 6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 атомa – хeксoз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- 7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 атомa – хeптoз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- 9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 атомa – нонoз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ајзначајније моносахариде у људској исхрани представљају три хексозе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глуко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чија концентрација се у крви одржава сложеним механизмима унутар физиолошког ранга од 3.9-5.8mmоl/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мало је заступљена у намирницама али се добија (варењем) из гликозида или других моносахарида (метаболичка конверзиј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фрукто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најслађи од свих простих шећера (налази се у воћу и меду), након претварања у глукозу се користи за добијање енергије у ћелиј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галакто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се не налази слободна у храни већ се добија варењем из млечног шећера (лактоза) и након претварања у глукозу се користи за добијање енергије у ћелиј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Гликозид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рс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простих шећeра који се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стоје од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а ил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више монoсахaрида повезаних гликозид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 везамa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дисахaрид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два монoсахaрид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олиг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ахaрид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3-12 монoсахaрид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х јед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ц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пол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ахaрид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&gt;12 монoсахaрид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х једин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ц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исахариди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лакто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галактоза + глукоз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малто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глукоза + глукоза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сахаро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или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сукро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глукоза + фруктоз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Пол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ахариди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i="1" lang="sr-Latn-CS" sz="1800" spc="-1" strike="noStrike">
                <a:solidFill>
                  <a:srgbClr val="003366"/>
                </a:solidFill>
                <a:latin typeface="Arial"/>
              </a:rPr>
              <a:t>хомополисахари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иста врста моносахарида, пример - </a:t>
            </a:r>
            <a:r>
              <a:rPr b="0" i="1" lang="sr-Latn-CS" sz="1800" spc="-1" strike="noStrike">
                <a:solidFill>
                  <a:srgbClr val="003366"/>
                </a:solidFill>
                <a:latin typeface="Arial"/>
              </a:rPr>
              <a:t>гликог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i="1" lang="sr-Latn-CS" sz="1800" spc="-1" strike="noStrike">
                <a:solidFill>
                  <a:srgbClr val="003366"/>
                </a:solidFill>
                <a:latin typeface="Arial"/>
              </a:rPr>
              <a:t>х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етероп</a:t>
            </a:r>
            <a:r>
              <a:rPr b="0" i="1" lang="sr-Latn-CS" sz="1800" spc="-1" strike="noStrike">
                <a:solidFill>
                  <a:srgbClr val="003366"/>
                </a:solidFill>
                <a:latin typeface="Arial"/>
              </a:rPr>
              <a:t>олисахари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различите врсте моносахари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8:21:34Z</dcterms:created>
  <dc:creator>!</dc:creator>
  <dc:description/>
  <dc:language>en-US</dc:language>
  <cp:lastModifiedBy>korisnik</cp:lastModifiedBy>
  <dcterms:modified xsi:type="dcterms:W3CDTF">2015-02-25T10:04:56Z</dcterms:modified>
  <cp:revision>30</cp:revision>
  <dc:subject/>
  <dc:title>CLINICAL NUTRITION</dc:title>
</cp:coreProperties>
</file>