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26A-9DD7-4F9A-8A67-65ED6E57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AB2-5F2A-4B63-8FD5-4D926E03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732-3B7B-4581-8B2F-7166496F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BC9-0453-4E5C-AC7C-FA5EB8A7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A5C-FCB6-4B8D-A5FE-F923D2B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37A-5B0E-4ED5-8A81-1C83F0E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20D-8FB5-42FA-8C16-AD29BEB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634-BCDD-48B8-828B-730B9B2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16A-93C9-455A-AF98-FB11B56D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8C1-C453-4A58-A4F8-60CA785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E71-7FA7-43E8-8BB4-C2BCBA6D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636-E7B0-491F-A11E-6E64A3C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022A-CE65-47F8-8BC0-3362FE6EE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НТРОПОМЕТРИЈСКА</a:t>
            </a:r>
            <a:br>
              <a:rPr sz="4000"/>
            </a:br>
            <a:br>
              <a:rPr sz="1200"/>
            </a:b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ИСПИТИВАЊ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9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80880" y="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дицинс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новне струковне студиј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ЈЕТЕ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486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КАТЕДРА ЗА ФИЗИОЛОГИЈУ И ДИЈЕТЕТИ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064880" y="3657600"/>
            <a:ext cx="659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ИЗВЕДЕНЕ АНТРОПОМЕТРИЈСК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MI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се користи за класификацију степена ухрањенос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MI &lt; 20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потхрањена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MI = 20-24.9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 нормално ухрањена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MI = 25-29.9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гојазна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MI &gt; 30-40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екстремно гојазна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MI &gt; 40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морбидно гојазна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143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BODY MASS INDEX (BM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2666880"/>
            <a:ext cx="381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еднос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M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се може утврдити и коришћењем одговарајућих табл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лика ле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948200" cy="586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29200" y="4876920"/>
            <a:ext cx="381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На левој скали таблице пронађе се вредност телесне масе 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) а на десној висина 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), те две тачке се споје лењиром и на месту где линија сече средњу скалу 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ody mass Index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очитава се вредност за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MI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ODY MASS INDEX (B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литератури се могу наћи различите вредности за п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роценат масти у тел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за које се сматра да су физиолошки оптимум или миниму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819520"/>
            <a:ext cx="792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епоручени п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роценат масти у телу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пре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ACE (American Co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cil on Exerci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3200400"/>
          <a:ext cx="7086600" cy="205596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23623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шкар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енцијална м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и спорти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2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тив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-2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1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ватљиве вр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3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јазне ос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80880" y="5562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д појмо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а ма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се минимална вредност испод које могу настати негативне последице по здравље поједин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активних спортиста вредности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рају у односу на врсту спорта и фазу тренинга (такмичарски период или период припрем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8380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РОЦЕНАТ МАСТИ У ТЕЛ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(%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ценат масти у телу се може одреди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Хидродензитометриј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дводно мерење телесне масе представља најпрецизнију процедуру тзв.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златни стандар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 Удео масти у саставу тела се мери урањањем комплетног тела у воду и мерењем ТМ у подводној средини. Базирано je на Архимедовом принцип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Ова компјутеризована метода је прецизна али некомфорна, дуготрајна, скупа, захтева специјалну опрему и обученог испитивач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з зби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4 ДК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и употребом одговарајућих таблиц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8380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РОЦЕНАТ МАСТИ У ТЕЛ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(%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49892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4280" y="18288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нат масти у телу (%) одређен из збира четири измерене вредности дебљине кожних набора (ДК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49528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Код спортиста где је екстремно повећана мишићна маса, или код патолошких стања са едемима и асцитом, индекси који се уобичајено користе 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MI, RTM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) НЕ ДАЈУ ни приближно тачну процену стања ухрање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209680"/>
            <a:ext cx="83059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Компјутеризоване методе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пјутеризована томографиј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уклеарно магнетна резонанц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MR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војно-енергетс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абсорпциометриј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X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исоко су софистициране методе за одређивање састава тела, имају задовољавајућу прецизност али су веома скупе, углавном дуго трају, излажу испитанике нежељеном зрачењу и не користе се у рутинској дијагностици телесне композициј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8380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РОЦЕНАТ МАСТИ У ТЕЛ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(%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828800"/>
            <a:ext cx="89154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Анализа биоелектричном импенданцом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IA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Метода је брза, неинвазивна, јефтина.Овом методом се процењује састав тела емитовањем ниске, безбедне дозе струје (око 800 микроампера) кроз људски организам. Струја пролази кроз тело –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без отпора кроз мишиће, док извесни отпор постоји при пролазу кроз масно ткиво. Овај отпор се назива БИОЕЛЕКТРИЧНА ИМПЕДАНЦА и апарат помоћу специјалног софтвера процењује садржај масти у телу, као и масу масног и немасног ткива, ћелијску масу и масу екстраћелијског дела, укупну телесну воду, ћелијску и екстраћелијску воду,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MI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, интезитет базалног метаболизма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Дигиталнe вагe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користе се за општу употребу, дају мање параметара али за оријентациону процену се могу сматрати прихватљиви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8380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РОЦЕНАТ МАСТИ У ТЕЛ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(%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9810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ценат масти у телу (%) може се израчунати и на основ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BMI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ody Mass Index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), година старости и пола, применом следећих форму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352680"/>
            <a:ext cx="883908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 (%)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1.51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I)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.70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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.6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(за дец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 (%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= (1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MI)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0.23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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0.8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)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(за одрасл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де ј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BMI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ody Mass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-године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-коефицијент који је за жене 0, а за мушкарце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8240" y="27050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7050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914400" y="8380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РОЦЕНАТ МАСТИ У ТЕЛ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М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(%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нос струк/кук се добија као количник обима струка и обима кука. Често се у пракси користи као једноставна метода за процену стања ухрањености и праћење ефекта терапије. Вредности до 0.95 за мушкарце и до 0.85 за жене су граничне вредности.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Гојазнос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0.8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за ж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0.9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за мушкар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834560" y="1143000"/>
            <a:ext cx="55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ОДНОС СТРУ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КУК  (ОС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вршина мишића надлактице (ПМН) је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дикатор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резерви проте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у организм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једноставнији начин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рачунав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а ПМН 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коришћењем номограм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 и 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из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Обима надлактиц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К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ricepsa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КН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 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253880" y="1066680"/>
            <a:ext cx="729468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ОВРШИНА МИШИЋА НАДЛАКТИ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М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 c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267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99"/>
                </a:solidFill>
                <a:latin typeface="Times New Roman"/>
              </a:rPr>
              <a:t>АНТРОПОМЕТРИЈСКА ИСПИТИВАЊ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4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Осов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антропометриј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рењ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Телесна висина (T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Телесна маса (Т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Дебљина кожног набора (ДК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Обим надлактице (O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Обим струка (ОС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Обим кукова (О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2057040"/>
            <a:ext cx="4038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Изведене антропометријс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Релативна телесна маса (Р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mass index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BM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оценат масти у телу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М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Однос стру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ку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OС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вршина мишића надлактице (ПМ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504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imes New Roman"/>
              </a:rPr>
              <a:t>НОМОГРА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3" descr="Antropometrija"/>
          <p:cNvPicPr/>
          <p:nvPr/>
        </p:nvPicPr>
        <p:blipFill>
          <a:blip r:embed="rId1"/>
          <a:stretch/>
        </p:blipFill>
        <p:spPr>
          <a:xfrm>
            <a:off x="2590920" y="1066680"/>
            <a:ext cx="41018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1143000"/>
            <a:ext cx="8458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осић М, Анђелковић И, Росић Г. Основни принципи нутриционизма и дијететике. Крагујевац, Медицински факултет, 2003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SBN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86-84277-11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осић М, Станишић Стојић С. Принципи исхране и рекреације. Универзитет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ingidunum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оград, 2012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ISBN: 978-86-7912-440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Лончар Стефановић Х, Анђелковић И. и др. Практикум из физиологије. Медицински факултет у Београду, Београд, 199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imes New Roman"/>
              </a:rPr>
              <a:t>ИЗВЕДЕНЕ АНТРОПОМЕТРИЈСКЕ ВРЕДН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РЕЛАТИВНА ТЕЛЕСНА МА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РТМ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Т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(T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/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лативна телесна маса представља релативни (процентуални однос) између мерењем утврђених вредности телесне масе (ТМ) и пожељних (тзв. идеалних - ИТМ) вредности телесне мас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деална телесна маса се најчешће израчунава п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De Mo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вој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форму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1584000" indent="-226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ИДЕАЛНА ТЕЛЕСНА МА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 Molovoj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Т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♂ =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00)-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5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2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lang="sr-Latn-CS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мушкарц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Т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♀ =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00)-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5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/2.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2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же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зрачуната вредност представља ИТМ само ако је проценат масног ткива у телу у физиолошким граница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Ако сте незадовољни израчунатим вредностима за ИТМ размислите о повећању мишићне масе (тренингом) пре него што се одлучите за рестриктивне дијете и смањење енергетског уно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305560" cy="41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ТМ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се користи за класификацију степена ухрање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M = 8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тхрањена особ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M = 80-89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мршав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M = 90-110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нормално ухрање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M = 111-119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умерено гоја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M = 120-135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гоја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M = 136-149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врло гоја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≥15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морбид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гојазно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533960" y="1219320"/>
            <a:ext cx="73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РЕЛАТИВНА ТЕЛЕСНА МАСА -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Т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РОМЕНА ТЕЛЕСНЕ МАСЕ (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ромена телесне масе у вре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је в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еома користан параметар који може указати на поремећаје нутритивног статуса. Дневне варијације (ако су негативне) говоре углавном о губитку воде, док промене у дужем периоду могу да укажу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на озбиљне дефиците, како у микр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тако и у погледу макронутритијена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Израчунавање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ромен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телесне масе се врши по формул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</a:rPr>
              <a:t>омен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</a:rPr>
              <a:t>TM(%) = </a:t>
            </a: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Times New Roman"/>
              </a:rPr>
              <a:t>Уобичајена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M – Актуелна TM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</a:rPr>
              <a:t>  x 10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</a:rPr>
              <a:t>Актуелна T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3200400"/>
            <a:ext cx="54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 1 недељ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% укупне Т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 1 месе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% укупне Т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 3 месец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7.5% укупне Т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 6 месец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10% укупне Т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1454760" y="1143000"/>
            <a:ext cx="607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РОМЕНА ТЕЛЕСНЕ МАСЕ (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606600" y="2438280"/>
            <a:ext cx="80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Сматра се да код следећих промена (губитака) телесне мас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410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може да се очекуј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већи губитак мишићне 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Brokov index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Т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♂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cm) – 100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мушкар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Т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cm) – 110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же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BODY MASS INDEX (BMI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k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ody Mass Index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се најчешће користи у пракси за процену стања ухрањености, класификацију гојазности и процену ефекта терапије, а израчунава се према формул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MI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= TM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/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T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657600" y="0"/>
            <a:ext cx="5486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</a:t>
            </a:r>
            <a:r>
              <a:rPr b="0" i="1" lang="sr-Latn-C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зведене антропометријске в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2:24:46Z</dcterms:created>
  <dc:creator>JUGA</dc:creator>
  <dc:description/>
  <dc:language>en-US</dc:language>
  <cp:lastModifiedBy>XP</cp:lastModifiedBy>
  <dcterms:modified xsi:type="dcterms:W3CDTF">2014-02-07T09:03:18Z</dcterms:modified>
  <cp:revision>98</cp:revision>
  <dc:subject/>
  <dc:title>ANTROPOMETRIJAS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